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B7FB-DD77-4954-8F5A-7E4D12E7B2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6145-9CD8-4657-AFCF-B4294C5DF5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74B3-CB2B-4A6A-9FAD-A6F5F10B92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24A9-1447-480D-AECA-4FD3B6FE56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D6CB-1D59-471D-8EE7-6FFAA69CEE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3C3F-1CFC-4A29-874F-D167FE4866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CB47-459D-4204-BC10-A50A4FAFED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E23E-A0D1-49A9-B5D1-E037CC4F2A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C80-8A3D-457E-90BE-C7236E96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8FB-7BC5-45A4-AFD3-427AF1E4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961-D07B-438D-88C2-6083C86B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202-6495-4780-8F7F-719DE1E4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ABCA-4E1C-4FF0-8F4A-5D083C79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3E86-B1E5-4602-B7A8-37C388D2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89FC-380E-4F07-A710-22C0EC61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BC08-9475-44C8-AA81-92D92C60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6B8D-795F-466C-9BB2-372B54F5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61B0-B144-4DDD-9AB7-964567B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8781-E177-4EA8-931B-1AEF36D6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BB2-0752-428B-A520-E0A9464B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1954-A40E-4B01-AB91-24DB52FC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6619-9937-459C-9349-EEEC8987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1B07-AE8E-4504-8513-4B074C32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2289-D934-4E8E-85EA-A7049319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6A8D-942D-461C-A166-41B6D4C9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3D2-7CB5-42C1-A493-C389183F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93A-FFC2-42E6-9653-1879C952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5B6-CDF9-4ECC-8104-EC22D0D3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61A-1397-41EA-A6BB-584D6019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464-25D2-405E-B1CE-B0107ECE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C1E-33F0-4E83-A3DD-21DDC739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B93-F0C5-40B6-98C0-BBE90B66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E936-07CC-4221-9A26-FC6502D787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EAE-8192-477C-AF3A-28BE7166C0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images.google.co.uk/imgres?imgurl=http://www.cuerpo8.es/STOL/reportajes/imgtrenesrenfe/AVE.jpg&amp;imgrefurl=http://www.cuerpo8.es/STOL/reportajes/STOLRpunt1.html&amp;usg=__9QNagKls24n2Coj3DoGN1ux_1NI=&amp;h=308&amp;w=461&amp;sz=20&amp;hl=en&amp;start=3&amp;sig2=0Xh3x1nh5GEi_e8A31C32g&amp;um=1&amp;tbnid=NsOJizRvaN7i-M:&amp;tbnh=86&amp;tbnw=128&amp;ei=tNRgSaCUBY6g_ga6nNHHDw&amp;prev=/images?q=AVE&amp;um=1&amp;hl=en&amp;rlz=1T4ACAW_enGB308GB308&amp;sa=N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Renfe_Operadora" TargetMode="External"/><Relationship Id="rId2" Type="http://schemas.openxmlformats.org/officeDocument/2006/relationships/hyperlink" Target="http://es.wikipedia.org/wiki/Espa&#241;a" TargetMode="External"/><Relationship Id="rId3" Type="http://schemas.openxmlformats.org/officeDocument/2006/relationships/hyperlink" Target="http://es.wikipedia.org/wiki/1992" TargetMode="External"/><Relationship Id="rId4" Type="http://schemas.openxmlformats.org/officeDocument/2006/relationships/hyperlink" Target="http://es.wikipedia.org/wiki/2008" TargetMode="External"/><Relationship Id="rId5" Type="http://schemas.openxmlformats.org/officeDocument/2006/relationships/hyperlink" Target="http://es.wikipedia.org/wiki/Estaci&#243;n_de_Santa_Justa" TargetMode="External"/><Relationship Id="rId6" Type="http://schemas.openxmlformats.org/officeDocument/2006/relationships/hyperlink" Target="http://es.wikipedia.org/wiki/Estaci&#243;n_de_Zaragoza-Delicias" TargetMode="External"/><Relationship Id="rId7" Type="http://schemas.openxmlformats.org/officeDocument/2006/relationships/hyperlink" Target="http://es.wikipedia.org/wiki/Huesca" TargetMode="External"/><Relationship Id="rId8" Type="http://schemas.openxmlformats.org/officeDocument/2006/relationships/hyperlink" Target="http://es.wikipedia.org/wiki/Estaci&#243;n_de_Mar&#237;a_Zambrano" TargetMode="External"/><Relationship Id="rId9" Type="http://schemas.openxmlformats.org/officeDocument/2006/relationships/hyperlink" Target="http://es.wikipedia.org/wiki/Estaci&#243;n_de_Barcelona_Sants" TargetMode="External"/><Relationship Id="rId10" Type="http://schemas.openxmlformats.org/officeDocument/2006/relationships/hyperlink" Target="http://images.google.co.uk/imgres?imgurl=http://www.cuerpo8.es/STOL/reportajes/imgtrenesrenfe/AVE.jpg&amp;imgrefurl=http://www.cuerpo8.es/STOL/reportajes/STOLRpunt1.html&amp;usg=__9QNagKls24n2Coj3DoGN1ux_1NI=&amp;h=308&amp;w=461&amp;sz=20&amp;hl=en&amp;start=3&amp;sig2=0Xh3x1nh5GEi_e8A31C32g&amp;um=1&amp;tbnid=NsOJizRvaN7i-M:&amp;tbnh=86&amp;tbnw=128&amp;ei=tNRgSaCUBY6g_ga6nNHHDw&amp;prev=/images?q=AVE&amp;um=1&amp;hl=en&amp;rlz=1T4ACAW_enGB308GB308&amp;sa=N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hyperlink" Target="http://images.google.co.uk/imgres?imgurl=http://members.fortunecity.com/agreeve/landcol/MINIBUS.gif&amp;imgrefurl=http://members.fortunecity.com/agreeve/landcol1.htm&amp;h=288&amp;w=650&amp;sz=5&amp;hl=en&amp;start=7&amp;sig2=94WIpj_zt-Pq8MNoMmxhvA&amp;um=1&amp;tbnid=h4BnnR-0IwTdrM:&amp;tbnh=61&amp;tbnw=137&amp;ei=4k2OR-3xK6bAwwHJy8GJBg&amp;prev=/images%3Fq%3Dminibus%26svnum%3D10%26um%3D1%26hl%3Den%26rlz%3D1T4GFRC_enGB203GB203%26sa%3DN" TargetMode="External"/><Relationship Id="rId7" Type="http://schemas.openxmlformats.org/officeDocument/2006/relationships/image" Target="../media/image12.jpeg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285840" y="2000160"/>
            <a:ext cx="385740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J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e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glat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929120" y="2000160"/>
            <a:ext cx="3857760" cy="435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85880" y="214200"/>
            <a:ext cx="7786800" cy="1678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Los países (The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 parejas, conecta el inglés y el españ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críbelos en tu cua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98989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092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learn further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match 13 different types of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earn about the Spanish fast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categorise the transpor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l transporte en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09480" y="990720"/>
            <a:ext cx="800100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62120" y="1066680"/>
            <a:ext cx="2166840" cy="471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coch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mo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bicicle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tr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av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bar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A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me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tax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autoc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helicópte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fer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autobú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36291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http://www.touradour.com/TOWNS/biarritz/biataxi.jpg"/>
          <p:cNvPicPr/>
          <p:nvPr/>
        </p:nvPicPr>
        <p:blipFill>
          <a:blip r:embed="rId1"/>
          <a:stretch/>
        </p:blipFill>
        <p:spPr>
          <a:xfrm>
            <a:off x="3005280" y="1405080"/>
            <a:ext cx="1552320" cy="1136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8"/>
          <p:cNvSpPr/>
          <p:nvPr/>
        </p:nvSpPr>
        <p:spPr>
          <a:xfrm>
            <a:off x="36291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http://www.frenchlinx.lotelinx.vic.edu.au/english/resources/imagebank/images/Paris_Helen/Services/RER.JPG"/>
          <p:cNvPicPr/>
          <p:nvPr/>
        </p:nvPicPr>
        <p:blipFill>
          <a:blip r:embed="rId2"/>
          <a:stretch/>
        </p:blipFill>
        <p:spPr>
          <a:xfrm>
            <a:off x="4643280" y="1362240"/>
            <a:ext cx="1500480" cy="1136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0"/>
          <p:cNvSpPr/>
          <p:nvPr/>
        </p:nvSpPr>
        <p:spPr>
          <a:xfrm>
            <a:off x="34862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http://ve2.ele.etsmtl.ca/~va2mek/paris_trucs/autobus.jpg"/>
          <p:cNvPicPr/>
          <p:nvPr/>
        </p:nvPicPr>
        <p:blipFill>
          <a:blip r:embed="rId3"/>
          <a:stretch/>
        </p:blipFill>
        <p:spPr>
          <a:xfrm>
            <a:off x="3005280" y="2928960"/>
            <a:ext cx="1500120" cy="1154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2"/>
          <p:cNvSpPr/>
          <p:nvPr/>
        </p:nvSpPr>
        <p:spPr>
          <a:xfrm>
            <a:off x="358632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1" descr="http://ve2.ele.etsmtl.ca/~va2mek/paris_trucs/metro.jpg"/>
          <p:cNvPicPr/>
          <p:nvPr/>
        </p:nvPicPr>
        <p:blipFill>
          <a:blip r:embed="rId4"/>
          <a:stretch/>
        </p:blipFill>
        <p:spPr>
          <a:xfrm>
            <a:off x="3005280" y="4503600"/>
            <a:ext cx="1500120" cy="1171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4"/>
          <p:cNvSpPr/>
          <p:nvPr/>
        </p:nvSpPr>
        <p:spPr>
          <a:xfrm>
            <a:off x="360036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3" descr="http://www.karecuso.com/photos/velo1.jpg"/>
          <p:cNvPicPr/>
          <p:nvPr/>
        </p:nvPicPr>
        <p:blipFill>
          <a:blip r:embed="rId5"/>
          <a:stretch/>
        </p:blipFill>
        <p:spPr>
          <a:xfrm>
            <a:off x="4643280" y="2886120"/>
            <a:ext cx="1500480" cy="1123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6"/>
          <p:cNvSpPr/>
          <p:nvPr/>
        </p:nvSpPr>
        <p:spPr>
          <a:xfrm>
            <a:off x="36003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43052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tbn1.google.com/images?q=tbn:NsOJizRvaN7i-M:http://www.cuerpo8.es/STOL/reportajes/imgtrenesrenfe/AV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4429080"/>
            <a:ext cx="1503360" cy="12146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286680" y="1143000"/>
            <a:ext cx="2166840" cy="471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torbi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ast tra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a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elicop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er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14240" y="6429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lta Velocidad Español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omúnmente conocida como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V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es una marca comercial de la empresa explotadora de ferrocarriles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nfe Operador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reada exclusivamente para designar el servicio con trenes de gran velocidad en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spañ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a partir de abril de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99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2008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os tiempos de recorrido de estos trenes son (aproximadamen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Sevilla-Santa Just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6"/>
              </a:rPr>
              <a:t>Zaragoza-Delici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 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7"/>
              </a:rPr>
              <a:t>Huesc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8"/>
              </a:rPr>
              <a:t>Málaga-María Zambran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9"/>
              </a:rPr>
              <a:t>Barcelona Sant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tbn1.google.com/images?q=tbn:NsOJizRvaN7i-M:http://www.cuerpo8.es/STOL/reportajes/imgtrenesrenfe/AVE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7720" y="4857840"/>
            <a:ext cx="21049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642960" y="785880"/>
            <a:ext cx="7572240" cy="314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ia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F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dor de tr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pos de tre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a Velocidad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lg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os rápido que la 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A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c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o más ba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j0320934"/>
          <p:cNvPicPr/>
          <p:nvPr/>
        </p:nvPicPr>
        <p:blipFill>
          <a:blip r:embed="rId1"/>
          <a:stretch/>
        </p:blipFill>
        <p:spPr>
          <a:xfrm>
            <a:off x="539640" y="981000"/>
            <a:ext cx="1295640" cy="1011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j0320970"/>
          <p:cNvPicPr/>
          <p:nvPr/>
        </p:nvPicPr>
        <p:blipFill>
          <a:blip r:embed="rId2"/>
          <a:stretch/>
        </p:blipFill>
        <p:spPr>
          <a:xfrm>
            <a:off x="4859280" y="981000"/>
            <a:ext cx="1514520" cy="114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j0199044"/>
          <p:cNvPicPr/>
          <p:nvPr/>
        </p:nvPicPr>
        <p:blipFill>
          <a:blip r:embed="rId3"/>
          <a:stretch/>
        </p:blipFill>
        <p:spPr>
          <a:xfrm>
            <a:off x="684360" y="2133720"/>
            <a:ext cx="1295280" cy="10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j0100510"/>
          <p:cNvPicPr/>
          <p:nvPr/>
        </p:nvPicPr>
        <p:blipFill>
          <a:blip r:embed="rId4"/>
          <a:stretch/>
        </p:blipFill>
        <p:spPr>
          <a:xfrm>
            <a:off x="4788000" y="2349360"/>
            <a:ext cx="1828800" cy="987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j0320926"/>
          <p:cNvPicPr/>
          <p:nvPr/>
        </p:nvPicPr>
        <p:blipFill>
          <a:blip r:embed="rId5"/>
          <a:stretch/>
        </p:blipFill>
        <p:spPr>
          <a:xfrm>
            <a:off x="324000" y="3284640"/>
            <a:ext cx="167616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MINIBU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32360" y="3500280"/>
            <a:ext cx="1871640" cy="83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BS00951_"/>
          <p:cNvPicPr/>
          <p:nvPr/>
        </p:nvPicPr>
        <p:blipFill>
          <a:blip r:embed="rId8"/>
          <a:stretch/>
        </p:blipFill>
        <p:spPr>
          <a:xfrm>
            <a:off x="539640" y="4365720"/>
            <a:ext cx="1098720" cy="93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3" descr="j0320954"/>
          <p:cNvPicPr/>
          <p:nvPr/>
        </p:nvPicPr>
        <p:blipFill>
          <a:blip r:embed="rId9"/>
          <a:stretch/>
        </p:blipFill>
        <p:spPr>
          <a:xfrm>
            <a:off x="5143680" y="4357800"/>
            <a:ext cx="1371600" cy="1071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4"/>
          <p:cNvSpPr/>
          <p:nvPr/>
        </p:nvSpPr>
        <p:spPr>
          <a:xfrm>
            <a:off x="2195640" y="54450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5" descr="j0307533"/>
          <p:cNvPicPr/>
          <p:nvPr/>
        </p:nvPicPr>
        <p:blipFill>
          <a:blip r:embed="rId10"/>
          <a:stretch/>
        </p:blipFill>
        <p:spPr>
          <a:xfrm>
            <a:off x="468360" y="5300640"/>
            <a:ext cx="1447920" cy="936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4214880" y="557208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tbn1.google.com/images?q=tbn:NsOJizRvaN7i-M:http://www.cuerpo8.es/STOL/reportajes/imgtrenesrenfe/AVE.jpg"/>
          <p:cNvPicPr/>
          <p:nvPr/>
        </p:nvPicPr>
        <p:blipFill>
          <a:blip r:embed="rId11"/>
          <a:stretch/>
        </p:blipFill>
        <p:spPr>
          <a:xfrm>
            <a:off x="5072040" y="5429160"/>
            <a:ext cx="1285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l transporte en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09480" y="990720"/>
            <a:ext cx="800100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762120" y="1066680"/>
            <a:ext cx="190476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bicic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t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v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b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t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uto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helicóp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f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utobú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36291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36291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34862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358632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360036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36003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43052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5"/>
          <p:cNvSpPr/>
          <p:nvPr/>
        </p:nvSpPr>
        <p:spPr>
          <a:xfrm>
            <a:off x="2971800" y="1143000"/>
            <a:ext cx="35053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transporte por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6" descr="..\..\..\..\..\Application Data\Microsoft\Media Catalog\Downloaded Clips\cl0\TN00734_.wmf"/>
          <p:cNvPicPr/>
          <p:nvPr/>
        </p:nvPicPr>
        <p:blipFill>
          <a:blip r:embed="rId1"/>
          <a:stretch/>
        </p:blipFill>
        <p:spPr>
          <a:xfrm>
            <a:off x="6781680" y="1143000"/>
            <a:ext cx="1135080" cy="674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7"/>
          <p:cNvSpPr/>
          <p:nvPr/>
        </p:nvSpPr>
        <p:spPr>
          <a:xfrm>
            <a:off x="2971800" y="1828800"/>
            <a:ext cx="35053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transport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rroviari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8"/>
          <p:cNvSpPr/>
          <p:nvPr/>
        </p:nvSpPr>
        <p:spPr>
          <a:xfrm>
            <a:off x="2971800" y="2514600"/>
            <a:ext cx="35053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transport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éri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9" descr="..\..\..\..\..\Application Data\Microsoft\Media Catalog\Downloaded Clips\cl0\BS01279_.wmf"/>
          <p:cNvPicPr/>
          <p:nvPr/>
        </p:nvPicPr>
        <p:blipFill>
          <a:blip r:embed="rId2"/>
          <a:stretch/>
        </p:blipFill>
        <p:spPr>
          <a:xfrm>
            <a:off x="6705720" y="1752480"/>
            <a:ext cx="1644480" cy="696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..\..\..\..\..\Application Data\Microsoft\Media Catalog\Downloaded Clips\cl0\NA01854_.wmf"/>
          <p:cNvPicPr/>
          <p:nvPr/>
        </p:nvPicPr>
        <p:blipFill>
          <a:blip r:embed="rId3"/>
          <a:stretch/>
        </p:blipFill>
        <p:spPr>
          <a:xfrm>
            <a:off x="6962760" y="2425680"/>
            <a:ext cx="961920" cy="546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1"/>
          <p:cNvSpPr/>
          <p:nvPr/>
        </p:nvSpPr>
        <p:spPr>
          <a:xfrm>
            <a:off x="2971800" y="3200400"/>
            <a:ext cx="35053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transport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rí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2" descr="..\..\..\..\..\Application Data\Microsoft\Media Catalog\Downloaded Clips\cl0\NA00075_.wmf"/>
          <p:cNvPicPr/>
          <p:nvPr/>
        </p:nvPicPr>
        <p:blipFill>
          <a:blip r:embed="rId4"/>
          <a:stretch/>
        </p:blipFill>
        <p:spPr>
          <a:xfrm>
            <a:off x="7010280" y="3200400"/>
            <a:ext cx="84636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4:06:47Z</dcterms:created>
  <dc:creator>Chris</dc:creator>
  <dc:description/>
  <dc:language>en-US</dc:language>
  <cp:lastModifiedBy>Chris</cp:lastModifiedBy>
  <dcterms:modified xsi:type="dcterms:W3CDTF">2009-03-23T09:37:03Z</dcterms:modified>
  <cp:revision>17</cp:revision>
  <dc:subject/>
  <dc:title>Slide 1</dc:title>
</cp:coreProperties>
</file>